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531-3A43-43A3-9080-991569DD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C90-F6D5-43DD-8AD1-6E267616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98A-5271-43F8-898C-A3CCAE2E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E86-8807-4538-8AE8-5A0B7DD3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7779-465B-48FE-AE67-9D1879D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C8F5-83AE-4A4B-A78A-844540E4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2503-699E-404B-8E30-4AAB31D7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2E76-179A-4508-B6F8-6F258704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259E-3461-4052-B3C0-8327DEFB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B8DC-F74D-4E13-83AF-E8A0F74B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DBD-FD52-4D78-B8DE-30CE5B58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D93-A4BA-4D80-80CD-9FB36069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F7B-9E3D-407A-9AA3-CE74797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FE41-611E-4570-9E8B-D7C7CD0E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BAF0-97E0-4EF0-8656-C3C01E3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9322-02F0-4656-9F0E-CAC7656E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BC53-E989-4F94-8948-2816DF84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717-A5B3-4F30-8685-C5E9D7FE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E52-3A26-4F5F-9B27-E3F631EA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CE3-01EE-4B90-95CA-E010FB0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295-00CC-413B-9B92-FFF2DE52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D434-DFC3-4EBB-89AE-8A168D33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731-F141-4961-95D3-5CE1A8A7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DC5-FAE2-4E06-8D75-54AD3A9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41D-6626-4193-BF2F-170EDA2AED5E}" type="slidenum"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C4E3-9774-42C8-91F8-B117165F87A4}" type="slidenum">
              <a:rPr b="0" lang="fi-F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tsikko 1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5104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uda Tuusul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Irma Kähkön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arraskuu 2010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hjausmateriaalin läpikäyminen ohjaajien kan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udalla ja Päksillä yllättävän vähän yhteistyötä keskenään – vein tietoa Keudasta ja opetussuunnitelmis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ähihoitajia vähän töissä esh:ssa Lahde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ustus lähihoitajien työskentelyyn esh:ssa 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Diagnosoinnin apuna erilaiset lomakkeet oireiden arviointiin – haastattelin niiden avulla potilai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tk-järjestelmän päivittäistä käyttöä (raportointi, hoitosuunnitelmat…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Raportoinnin rakenteellisuus haastav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arraskuun aikana sairaalassa otettiin käyttöön uusi hoitoisuusluokitusjärjestelmä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7300800" y="4797360"/>
            <a:ext cx="18432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eräsin jakson aikana materiaalia, jota olen käyttänyt jo kevään opetuksessan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ietoa koulutuksista, ohjauksesta, esimerkkitapauksia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idin mp-opiskelijoille tunnin, jossa kerroin topo-jaksoni kokemuksista ja heillä oli mahdollisuus kysellä minulta topo-jaksos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aanotto topo-paikassani loistava ; palaveri aloittaessani, jakson aikana ja lopuss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olemmilla osastoilla minulle nimetty ohjaaja, joiden kanssa tein aluksi samoja työvuoroj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akso upea ja opettava kokemus, vaikka alussa rankka ja väsyttävä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Oma rooli työyhteisössä 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siat, jotka muuttuneet opettajana oloni aikana psyk hoitotyössä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otilaiden oikeude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erhe- ja verkostotyö lisääntyny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äihdepsykoosien kasvu ja haastavu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72560" indent="-2512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Atk:lle kirjaaminen ja luokitukset vievät työaika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UOSITTE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LÄMPIMÄST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IKILLE OPETTA-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JILLE !!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399564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kä työpaikka hyödyntäisi eniten ammatillisesti itseäni opettajan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Missä paikassa toteutuu samanaikaisesti mielenterveys- päihde- ja kriisityö 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uroran sairaalassa ja Kellokosken sairaalassa lähihoitajaopiskelijoita on jo syventävällä työssä oppimisen jaksoill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äijät-Hämeen sosiaali- ja terveydenhuollon kuntayhtymä  - psykiatrian tulosalue – sairaalapsykiatri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äijät-Hämeen keskussairaala, Keskussairaalankatu 7, Lah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sykiatrisen vuodeosastot 5 ja 9 vastaavat osaltaan sairaanhoitopiirin alueelta nousevaan akuuttiin ja lyhytkestoiseen psykiatrisen hoidon tarpeese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8" name="Picture 2" descr="C:\Program Files\Microsoft Office\MEDIA\CAGCAT10\j0235319.wmf"/>
          <p:cNvPicPr/>
          <p:nvPr/>
        </p:nvPicPr>
        <p:blipFill>
          <a:blip r:embed="rId2"/>
          <a:stretch/>
        </p:blipFill>
        <p:spPr>
          <a:xfrm>
            <a:off x="7359480" y="0"/>
            <a:ext cx="1784520" cy="182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Program Files\Microsoft Office\MEDIA\CAGCAT10\j0235319.wmf"/>
          <p:cNvPicPr/>
          <p:nvPr/>
        </p:nvPicPr>
        <p:blipFill>
          <a:blip r:embed="rId3"/>
          <a:stretch/>
        </p:blipFill>
        <p:spPr>
          <a:xfrm>
            <a:off x="7164360" y="2133720"/>
            <a:ext cx="17845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uljettu psykoosihoito-osasto, jossa toteutetaan psykoosipotilaiden tutkimusta ja hoito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Hoitotyön näkökulma varhaiskuntoutt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16 sairaansija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rvioitu hoitojakson pituus noin 1-2 kuukautt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ainoalueena nuorten ensipsykoosien tutkiminen ja hoito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ikuispsykiatrian suljettu osas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astaanotto ympäri vuorokaud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avoitteena kokonaisvaltainen tilanteen kartoitus, akuuttivaiheen hoito ja tarkoituksenmukaisen jatkohoidon järjestämin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16 sairaansija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Akuuttipotilaiden laadukas vastaanottaminen, akuutin psykoosipotilaan /vaikeahoitoisen potilaan hoito, päihdepsykoosien ja vaikeiden vieroitusoireiden hoito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Perehtyminen tämän päivän psykiatrisen hoidon käytänteisiin ja toteuttaa hoitotyötä moniammatillisen tiimin jäsenenä  (1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Kartoittaa oppilaitoksen ja ohjaajien roolia lähihoitajaopiskelijoiden top-jaksoilla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Saada uutta tietoa atk-ohjelmista + arviointimittareista + lomakkeista (3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tsikko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Yhteistyön lisääminen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Viedä tietoa uudesta opetussuunnitelmasta ja näyttötutkinnoista (2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Book Antiqua"/>
              </a:rPr>
              <a:t>Tarjota opiskelijoille laadukasta, päivitettyä opetusta ja kehittää opetuksen sisältöä ja materiaalia (4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tsikk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Kohtasin osastoilla eri ikäisiä potilaita, joilla psykooseja, kaksisuuntaista mielialahäiriötä, masennusta ja päihderiippuvuutt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Potilailla erilaisia elämänkriisejä, jotka johtaneet itsemurhayritykseen ja viiltelyy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Toteutin jakson aikana potilaiden sisään ja uloskirjoittamista sairaalaa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Book Antiqua"/>
              </a:rPr>
              <a:t>Yhteistyötä eri mielenterveys- ja päihdepaikkojen ja sosiaalihuollon kanss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Jatkopaika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Verkostopalaverit  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Book Antiqua"/>
              </a:rPr>
              <a:t>Lastensuojelu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i-FI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Hoitotyön toteuttamista hoitoryhmän jäsenenä – kaksi erilaista moniammatillista tiimiä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Hoitoneuvottelut potilaiden läheisten ja perheiden kanssa  (perhetyö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Kotikäyntien tekemistä nuorten potilaiden kanss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Osastolla 5 päivittäin tarkkailutapaamisia (pidättävä tai vapauttava päätös 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Lääke- ja ect-hoidon seurantaa, arviontia ja osallistumis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Somaattisen puolen hoitoa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Psykoedukaatiota (ohjausta, neuvontaa, tietoa…)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Book Antiqua"/>
              </a:rPr>
              <a:t>Käytännöt eristämistä ja rajoittamisesta , vastentahtoinen hoito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9:00:30Z</dcterms:created>
  <dc:creator>TiVi-Tuki</dc:creator>
  <dc:description/>
  <dc:language>en-US</dc:language>
  <cp:lastModifiedBy>TiVi-Tuki</cp:lastModifiedBy>
  <dcterms:modified xsi:type="dcterms:W3CDTF">2011-01-26T10:29:21Z</dcterms:modified>
  <cp:revision>12</cp:revision>
  <dc:subject/>
  <dc:title>Topo-jakson esittely</dc:title>
</cp:coreProperties>
</file>